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3EB-F0DC-4FE5-98E7-6F765031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2A3-57C7-4682-B66E-87F84533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B22-5BFE-4697-9A10-28DA7B8D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621-A204-4EE3-ABFC-7527CEC1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0CA-D489-4172-BC81-051B99E9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C41-C35E-4332-84CA-4A979AF4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D99-3943-4C32-BD89-E3A500B3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7E0-6F27-46AA-9571-6E213E78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8565-1A26-4C28-B117-A939F69F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6CFD-C344-4A1E-845E-A9F689A5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25E-18E0-4E5F-B299-F47ED5D7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07B-9865-4100-AFBC-7C6BE857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E6AD-D81C-4951-BCC6-B62690354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ack Ob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eremy Edm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Black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Barack Obama"/>
          <p:cNvPicPr/>
          <p:nvPr/>
        </p:nvPicPr>
        <p:blipFill>
          <a:blip r:embed="rId1"/>
          <a:stretch/>
        </p:blipFill>
        <p:spPr>
          <a:xfrm>
            <a:off x="4038480" y="533520"/>
            <a:ext cx="1828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ack Hussein Obama was born on August 4,1961 in Hawaii. His father was a Kenyan Muslim and mother an American Christi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age of two, his parents divorced and Obama went to live with his mother in Indone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ama's mother Ann Dunham, married an Indonesian Oil manager. After staying a few years with his mother, Obama went to America to do his high school and lived with his grandpar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ama was able to get admission in a very prestigious prep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ama later attended Columbia University and then Harvard Law School in 1988 from where he received his law degree. In Harvard he made news by becoming the first African-American to chair the prestigious Harvard Law Revie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f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getting his degree, he chose not to join a well paying job and instead chose to work for civil rights and joined the civil rights law firm Miner, Barnhill &amp; Gal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lso taught constitutional law at the University of Chicago Law School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working at a corporate law firm, Obama met Michelle Robinson whom he married in 199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, Obama won the senate seat from Illinois to become the fifth African-American senator in the history of the U.S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ebruary 2007, Senator Barack Obama formally signed his candidature for the post of President whose elections are to be held in November, 2008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Accomplis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ted to be a strong candidate, he might again create history by becoming the first African-American President of Ame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November 4, 2008, Barack Obama defeated John McCain in the general election and became the first African American to be elected President of the Unit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6:50:15Z</dcterms:created>
  <dc:creator>759670</dc:creator>
  <dc:description/>
  <dc:language>en-US</dc:language>
  <cp:lastModifiedBy>759670</cp:lastModifiedBy>
  <dcterms:modified xsi:type="dcterms:W3CDTF">2008-11-20T17:11:40Z</dcterms:modified>
  <cp:revision>2</cp:revision>
  <dc:subject/>
  <dc:title>Barack Obama</dc:title>
</cp:coreProperties>
</file>